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jeop.wav" ContentType="audio/x-wav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3E0B-2CCB-49C4-ADBE-86D57719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B358-B3E7-4034-917D-97F669DE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98F7-7025-4877-A75D-A4F37F19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5E67-08C7-4584-BBDE-093FC358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F4B4-24D0-437D-ABE0-D23E9490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7065-1163-44EF-B2E3-1CE0197B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4724-2066-4ABC-94EA-8BF24771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D079-6F00-4C6A-9489-5918F7B1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CE73-D4A6-4516-AE3A-4CF21E28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6E49-D1B7-499E-9810-7FFC9E4E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5A41-5582-47E5-9306-22F98895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026E-A765-4B71-8F5D-C00A7A02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EFDB-6D75-46C5-9D97-1371264A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C699-299C-42D1-B5B6-976F76B7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AD6B-ED5B-4113-AE87-6E546445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1C86-6F7B-42CC-BF46-92E2B9F0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AC36-D51A-44C6-AC5C-82FEC361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C5B8-7378-4CCA-A174-96C8D0AB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C7F5-4E2F-4AC8-8E70-79BD85B3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2516-8210-4C7E-A35B-E67C3F6F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5E5-7BFE-4856-B1FD-D6C36E1D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B5C2-D47B-4B85-A02E-0378CBAD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4965-44DA-4E02-88FA-6AD26A71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B680-E187-45C1-81F2-111EDE54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8354-0332-4843-AB33-635F0E5D99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6037-25D0-407D-92AE-A6BFAA692C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image" Target="../media/image2.jpeg"/><Relationship Id="rId29" Type="http://schemas.openxmlformats.org/officeDocument/2006/relationships/image" Target="../media/image3.png"/><Relationship Id="rId30" Type="http://schemas.openxmlformats.org/officeDocument/2006/relationships/image" Target="../media/image4.jpeg"/><Relationship Id="rId31" Type="http://schemas.openxmlformats.org/officeDocument/2006/relationships/image" Target="../media/image5.jpeg"/><Relationship Id="rId32" Type="http://schemas.openxmlformats.org/officeDocument/2006/relationships/image" Target="../media/image6.jpeg"/><Relationship Id="rId33" Type="http://schemas.openxmlformats.org/officeDocument/2006/relationships/audio" Target="../media/jeop.wav"/><Relationship Id="rId3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89928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92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496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2880" y="175248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8"/>
          <a:stretch/>
        </p:blipFill>
        <p:spPr>
          <a:xfrm>
            <a:off x="838080" y="1143000"/>
            <a:ext cx="1527120" cy="1143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9"/>
          <a:stretch/>
        </p:blipFill>
        <p:spPr>
          <a:xfrm>
            <a:off x="2362320" y="1143000"/>
            <a:ext cx="152712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0"/>
          <a:stretch/>
        </p:blipFill>
        <p:spPr>
          <a:xfrm>
            <a:off x="3886200" y="1143000"/>
            <a:ext cx="1527120" cy="1143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1"/>
          <a:stretch/>
        </p:blipFill>
        <p:spPr>
          <a:xfrm>
            <a:off x="5410080" y="1143000"/>
            <a:ext cx="152712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2"/>
          <a:stretch/>
        </p:blipFill>
        <p:spPr>
          <a:xfrm>
            <a:off x="6934320" y="1143000"/>
            <a:ext cx="1527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893960" y="3168720"/>
            <a:ext cx="558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is this piece significa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42040" y="1752480"/>
            <a:ext cx="680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d Chiarascur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rspective brings focus into Chri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vided into 4 groups of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tures the scene after Christ say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meone will decieve h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dividual Emo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892160" y="3168720"/>
            <a:ext cx="36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892160" y="316872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chelangel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894680" y="3168720"/>
            <a:ext cx="558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 of the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890720" y="316872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501-15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893960" y="3168720"/>
            <a:ext cx="467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time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891800" y="3168720"/>
            <a:ext cx="346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Renaiss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892880" y="31687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d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22860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92520" y="31687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2514600"/>
            <a:ext cx="7238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significant about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889280" y="31687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228600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de from Marble Scra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nds and Feet are Enlarg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Greco-Roman nude sty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own Tense before batt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892520" y="31687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891080" y="3168720"/>
            <a:ext cx="19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erone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894680" y="3168720"/>
            <a:ext cx="558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 of the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890720" y="31687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57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894320" y="3168720"/>
            <a:ext cx="510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artistic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91440" y="3168720"/>
            <a:ext cx="22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nner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892160" y="3168720"/>
            <a:ext cx="585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was Veronese put on tri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 the inquisition cour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892520" y="3168720"/>
            <a:ext cx="58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painting a last supper wit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imals and clow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892160" y="316872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onardo da Vinc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893600" y="3168720"/>
            <a:ext cx="469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is this piece typic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manneris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892160" y="3168720"/>
            <a:ext cx="444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 central foc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mbiguous spa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imary color harmo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892520" y="31687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891440" y="3168720"/>
            <a:ext cx="18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onzi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893240" y="3168720"/>
            <a:ext cx="33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890720" y="31687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54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893240" y="316872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commiss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891440" y="3168720"/>
            <a:ext cx="650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simo I, Grand Duke of Tusca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894320" y="3168720"/>
            <a:ext cx="510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artistic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891440" y="3168720"/>
            <a:ext cx="22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nner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93240" y="3168720"/>
            <a:ext cx="60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what years was it comple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894680" y="3168720"/>
            <a:ext cx="68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significant about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893600" y="3168720"/>
            <a:ext cx="606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tensive use of Alleg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re given to the hands and fe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dely differing interpret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892520" y="31687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892160" y="316872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chelangel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894320" y="3168720"/>
            <a:ext cx="53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is this piece loca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893600" y="3168720"/>
            <a:ext cx="53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stine Chapel, Vatican C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895040" y="3168720"/>
            <a:ext cx="60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the dates of the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890720" y="316872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534-154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894320" y="3168720"/>
            <a:ext cx="510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artistic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891440" y="3168720"/>
            <a:ext cx="20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nneri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890720" y="316872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495-1498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893240" y="316872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commiss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2320" y="1523880"/>
            <a:ext cx="912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pe Paul III as part of the counter-refor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ther Facts: Fres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 central focal poi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d is the stern jud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amned descend, Just asce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urtured, twisted bodies, typical of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chelangel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893240" y="3168720"/>
            <a:ext cx="52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Artistic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891800" y="3168720"/>
            <a:ext cx="346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Renaiss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893240" y="3168720"/>
            <a:ext cx="36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d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890720" y="316872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es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sylvanuse</cp:lastModifiedBy>
  <dcterms:modified xsi:type="dcterms:W3CDTF">2007-05-09T11:44:03Z</dcterms:modified>
  <cp:revision>17</cp:revision>
  <dc:subject/>
  <dc:title>Jeopardy</dc:title>
</cp:coreProperties>
</file>